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ought we should do one as an example just to make sure that everybody knew what was going on (I hate to model but I think it’s needed...what do you all think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on handout instead so that partners have to talk about it and people are more likely to engage in the math if the answer isn’t right there for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5173D-CD16-4EB6-B9F1-66F44447E7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BE352-0A69-4B65-9E8F-25F36B2286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6C05A-179C-4079-9285-6C83DB8B04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0C608-5BA4-4441-B37F-E765E97125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E7ECC-DEC5-4EF5-BC3E-7AC41AECC4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EFA5D-1735-41F3-905C-0AF4237B9F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849D7-5DD6-4DAD-B068-1ACE44D1AA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24DB0-A92F-4046-BE19-C85ED3E874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74D8D-B574-4960-B6BF-B0967933A9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F9EED-F5D3-447C-A23B-00C1A98AA6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93C1B-516F-46D1-9B90-957A07408E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88A3E-3E29-4E41-BF2D-E8F397FFBF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0B02-56BC-45FF-8E3A-E0A0309ACA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09A8-D55D-4A1F-BD69-88FB62B6D5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Math at the Beach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Grade 5-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Sandra Fra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Erik T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E:\Beach Images\Beach &amp; Water (A - B)\Beach Chair &amp; Umbrella 2.wmf"/>
          <p:cNvPicPr/>
          <p:nvPr/>
        </p:nvPicPr>
        <p:blipFill>
          <a:blip r:embed="rId3"/>
          <a:stretch/>
        </p:blipFill>
        <p:spPr>
          <a:xfrm>
            <a:off x="609480" y="4038480"/>
            <a:ext cx="171144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E:\Beach Images\Beach &amp; Water (C - G)\Desert Island 1.wmf"/>
          <p:cNvPicPr/>
          <p:nvPr/>
        </p:nvPicPr>
        <p:blipFill>
          <a:blip r:embed="rId4"/>
          <a:stretch/>
        </p:blipFill>
        <p:spPr>
          <a:xfrm>
            <a:off x="7162920" y="3962520"/>
            <a:ext cx="1795320" cy="2361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E:\Beach Images\Beach &amp; Water (A - B)\Beach Balls 3.wmf"/>
          <p:cNvPicPr/>
          <p:nvPr/>
        </p:nvPicPr>
        <p:blipFill>
          <a:blip r:embed="rId5"/>
          <a:stretch/>
        </p:blipFill>
        <p:spPr>
          <a:xfrm>
            <a:off x="6629400" y="228600"/>
            <a:ext cx="22874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 in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Momen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about what you were saying to your partner while walking around the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e you Telling?  Showing?  Guiding?  Questioning?  Wai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you have enough think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else do we respond to students in the mo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9B5E-B22F-492F-8DBC-2954538F33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E:\Beach Images\Beach &amp; Water (K - P)\Life Preserver 04.wmf"/>
          <p:cNvPicPr/>
          <p:nvPr/>
        </p:nvPicPr>
        <p:blipFill>
          <a:blip r:embed="rId2"/>
          <a:stretch/>
        </p:blipFill>
        <p:spPr>
          <a:xfrm>
            <a:off x="6961320" y="2971800"/>
            <a:ext cx="2182680" cy="134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able Secret Ru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table, you will be getting a new secret pattern r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f you will create a tile representation (one colour only this time) of the pattern rule (but none of you can have the same geometric desig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B6E3-FC84-4F40-9FB9-D18C843AD9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allery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table, find the other table who had the same pattern rule a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anybody at the other table have the same geometric design you h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choose a different table and find the other table that had the same rule.  Did their designs look the sa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CF7C-0997-4639-97C8-056449B01F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having only 1 colour make it more difficult to find your table match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lse might have made it more difficult to find your matching 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04F4-622A-44DE-A8F9-B15FBB5157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the purpose of this activity would have be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FEAD-B3AB-4D69-BEF6-7454362FCB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uess my Rule!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only position #2, determine my pattern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some individual think time, share as a 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36CB-375F-4625-9FB1-5465FC7424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809880" y="1523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4114800" y="1523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3809880" y="19810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4114800" y="19810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4419720" y="19810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3505320" y="19810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3809880" y="24382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4114800" y="24382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886200" y="2971800"/>
            <a:ext cx="4348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uess my Rule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thematics came out of this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this problem further our goal to discuss the big ideas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18D1-33A2-4D8B-B44A-0C35ACC4595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cret Pattern Rules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(if time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your own secret patterns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 think you’re ready to try and trick each other a bit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r table try to determine the rule you cr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D0AD-4E8B-4766-940C-D02551689D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deo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a short video of a Grade 7 class participating in a similar les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o look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of multiplicative thinking and general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 teachers are responding to the students in the 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D7B5-9051-4DD9-9C2E-46623B3ABD7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deo – Discuss at tab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here evidence of multiplicative thinking and generaliz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teachers responding to the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re your first though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e the students engaged in the ma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thing else you notic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1EA4-B540-406F-8CF9-D29084755DD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atterning &amp; Algebra 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reakout 1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8324-E400-4F69-8142-737C5CAFCA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E:\Beach Images\Beach &amp; Water (C - G)\Diving In 12.wmf"/>
          <p:cNvPicPr/>
          <p:nvPr/>
        </p:nvPicPr>
        <p:blipFill>
          <a:blip r:embed="rId1"/>
          <a:stretch/>
        </p:blipFill>
        <p:spPr>
          <a:xfrm>
            <a:off x="3581280" y="1676520"/>
            <a:ext cx="2551320" cy="3201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E:\Beach Images\Landscapes (A - Ci)\Beach Scene 29.wmf"/>
          <p:cNvPicPr/>
          <p:nvPr/>
        </p:nvPicPr>
        <p:blipFill>
          <a:blip r:embed="rId2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did we learn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he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eaching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D639-1B96-4ACB-BFD1-B3BFA8078C5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(Did we meet them?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create geometric patterns and use them to support our own understanding of multiplicative thinking, generalizations and multiple represen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begin discussing the idea of responding to students in the mo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E8FD-8D90-4DE4-AD27-46E3DF7B5D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F1C1-A5DA-4907-8298-E9D0B0E9C9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E:\Beach Images\Landscapes (A - Ci)\Beach Scene 29.wmf"/>
          <p:cNvPicPr/>
          <p:nvPr/>
        </p:nvPicPr>
        <p:blipFill>
          <a:blip r:embed="rId2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at you’ve been engaged in the math throughout this breakout we would like you t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the exit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 on how you’re feeling about P&amp;A n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FAF1-14AB-4D8C-8E39-0C58A940DF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Entrance Card</a:t>
            </a: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complete the following entrance c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interested to hear how you’re feeling about Patterning &amp; Algebra after the first 2 Plenary Ses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C338-5B14-4218-9468-3377CD40CBD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cret Rule Gam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irs, you will be g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cret pattern ru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of tiles = (position number) x 2 +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 2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ur Tiles (use 2 colou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colour tiles to create 1 tile representation of the secret pattern you are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F1FE-77FA-4E5F-AA4A-F24327F8C60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uess my Rule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9979-24A4-45D0-AAE7-71A70B743F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60020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1295280" y="236232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35268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295280" y="297180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99072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657600" y="205740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657600" y="236232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812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657600" y="297180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657600" y="327672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6324480" y="205740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6324480" y="236232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6324480" y="17524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6324480" y="297180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6324480" y="327672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4"/>
          <p:cNvSpPr/>
          <p:nvPr/>
        </p:nvSpPr>
        <p:spPr>
          <a:xfrm>
            <a:off x="121932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6"/>
          <p:cNvSpPr/>
          <p:nvPr/>
        </p:nvSpPr>
        <p:spPr>
          <a:xfrm>
            <a:off x="35812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7"/>
          <p:cNvSpPr/>
          <p:nvPr/>
        </p:nvSpPr>
        <p:spPr>
          <a:xfrm>
            <a:off x="62485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8"/>
          <p:cNvSpPr/>
          <p:nvPr/>
        </p:nvSpPr>
        <p:spPr>
          <a:xfrm>
            <a:off x="914400" y="4800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of tiles = (position number) x          +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723888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693432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662940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41008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71500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601992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26708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96252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295280" y="2666880"/>
            <a:ext cx="266760" cy="2746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6324480" y="2666880"/>
            <a:ext cx="266760" cy="2746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657600" y="2666880"/>
            <a:ext cx="266760" cy="2746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ontent Placeholder 2"/>
          <p:cNvSpPr/>
          <p:nvPr/>
        </p:nvSpPr>
        <p:spPr>
          <a:xfrm>
            <a:off x="380880" y="121932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6324480" y="35812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ake your Patterns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B453-EE10-4F80-A2BD-5FF3A81315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E:\Beach Images\Beach &amp; Water (A - B)\Beach Balls 1.wmf"/>
          <p:cNvPicPr/>
          <p:nvPr/>
        </p:nvPicPr>
        <p:blipFill>
          <a:blip r:embed="rId2"/>
          <a:stretch/>
        </p:blipFill>
        <p:spPr>
          <a:xfrm>
            <a:off x="2666880" y="1676520"/>
            <a:ext cx="3589560" cy="38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allery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your partner, walk around and determine the secret rules of the different representations in the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down the pattern rules on your hand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4AE8-37DA-46FA-881E-EBCD346192B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question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patterns did you have a hard time figuring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the 2 colours help you see the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the visual representation allow you to determine the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ther feedback about this activ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7992-CA19-495F-82DD-06687143C0F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atterning &amp; Algebr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the following 2 Big Ideas in P&amp;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ere these big ideas brought out in this activ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F827-ED13-45EC-B0E2-C61C229BE2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Erik Teather</cp:lastModifiedBy>
  <dcterms:modified xsi:type="dcterms:W3CDTF">2011-07-31T01:33:31Z</dcterms:modified>
  <cp:revision>64</cp:revision>
  <dc:subject/>
  <dc:title>&lt;Title&gt;</dc:title>
</cp:coreProperties>
</file>